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185-3F8B-4D0E-B861-EE159A67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76C-17C8-4A7F-9305-A1936593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070-FD1A-41AA-B653-0EA66C68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48E-44C1-46E9-BC7D-A9B60F33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032C-323C-4D50-93DE-2D317BC6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2A81-2B41-45B1-AA0D-E5516EA7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837E-0F0E-49EA-92D2-723EE6EF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B84B-83C1-4571-97A0-51DB7128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3DF3-1379-4133-A882-370414B7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3F0A-B8CE-4275-8D30-5F7E2577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8E73-23FE-456D-A4F8-30906652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CE64-3E17-4A16-AA54-E1E55554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84F1-EF0C-4305-BF32-39186C20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1192-69CA-4D26-948D-9DA8FDAE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F8BE-7457-42D0-BB7F-47CDA475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A67A-9B72-494F-A659-3C23E03D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C7D1-31F4-4B8E-8484-C6C9975A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2D6-65B9-4708-A283-EBB7CD84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1FC-90A8-4C2F-870E-410ED6BB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0B0-6079-4160-8B2A-79229696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F13B-8D15-497C-8B98-A7C88A34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56E-0DE0-4ED9-B81A-0A251088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0A2-7EED-4CB3-A677-D2DB44D0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98E-081D-43D0-BE2C-48DCE0AF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3F96-94B9-4E6A-8D14-2A1F2CC5773F}" type="slidenum">
              <a:rPr b="0" lang="en-NZ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9F50-E255-471B-94E5-53C93492CD4B}" type="slidenum">
              <a:rPr b="0" lang="en-NZ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Trevor, Gareth, Ju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Virtual A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50 virtual ants incorporating motion detection have been engaging visitors to the Otago Museum Natures Gallery for 5 week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Cityscap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Connecting people with their heritage and community through our S.H.P(stupidly huge panorama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We have delivered the virtual ant project to the Otago Museum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ff"/>
                </a:solidFill>
                <a:latin typeface="Book Antiqua"/>
              </a:rPr>
              <a:t>(search virtual ants on youtube.com or go to Otago Museum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3" descr="youtube.JPG"/>
          <p:cNvPicPr/>
          <p:nvPr/>
        </p:nvPicPr>
        <p:blipFill>
          <a:blip r:embed="rId2"/>
          <a:stretch/>
        </p:blipFill>
        <p:spPr>
          <a:xfrm>
            <a:off x="1928880" y="2857680"/>
            <a:ext cx="542916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3" descr="delivery.JPG"/>
          <p:cNvPicPr/>
          <p:nvPr/>
        </p:nvPicPr>
        <p:blipFill>
          <a:blip r:embed="rId2"/>
          <a:stretch/>
        </p:blipFill>
        <p:spPr>
          <a:xfrm>
            <a:off x="1752480" y="2244600"/>
            <a:ext cx="56390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81532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Book Antiqua"/>
              </a:rPr>
              <a:t>We are experimenting with different input device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mouse.JPG"/>
          <p:cNvPicPr/>
          <p:nvPr/>
        </p:nvPicPr>
        <p:blipFill>
          <a:blip r:embed="rId2"/>
          <a:stretch/>
        </p:blipFill>
        <p:spPr>
          <a:xfrm>
            <a:off x="1214280" y="2357280"/>
            <a:ext cx="2067120" cy="196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p55.jpg"/>
          <p:cNvPicPr/>
          <p:nvPr/>
        </p:nvPicPr>
        <p:blipFill>
          <a:blip r:embed="rId3"/>
          <a:stretch/>
        </p:blipFill>
        <p:spPr>
          <a:xfrm>
            <a:off x="3571920" y="2357280"/>
            <a:ext cx="214308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225360" y="103320"/>
            <a:ext cx="8467920" cy="1323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Waiting on the data glo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Book Antiqua"/>
              </a:rPr>
              <a:t>Still experimenting with moving images around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2:12:46Z</dcterms:created>
  <dc:creator>Default-User</dc:creator>
  <dc:description/>
  <dc:language>en-US</dc:language>
  <cp:lastModifiedBy>Default-User</cp:lastModifiedBy>
  <dcterms:modified xsi:type="dcterms:W3CDTF">2009-07-20T22:41:51Z</dcterms:modified>
  <cp:revision>3</cp:revision>
  <dc:subject/>
  <dc:title>AntWall</dc:title>
</cp:coreProperties>
</file>